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B52-2D5C-4BA0-BE28-9E580470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C1B-3174-4114-8E2A-EA18EB1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9BBB6-3635-4379-A09B-8F778D3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FE80D-089C-4AD0-825E-FECD0AC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9A80D-2FD7-4027-AE1D-CC66A5F5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7E0C6-A010-4936-8CDB-424BC9A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D3F43-E786-49CB-8E1F-52D6E13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6459B-E1F0-4683-B7BE-96130D5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EA60C-A8A4-4456-9D28-0408EEC4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C0E63-F625-4269-8294-E0828CD8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A9408-AD5F-4C1C-89F9-A761344B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39512-EBE0-4AC8-AA6A-B483C371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989-262F-4CAE-96EF-C60FA891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5D435-1B71-4F3C-BB60-E626538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09F30-3D1E-45B3-986F-58E90A1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2A6C7-CD67-465C-8EE7-168ADFC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B660E-AB9C-4789-B593-B187AA45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97941-BB38-444D-A209-F6BC5016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4AA5B-C93F-4550-B475-0962B09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8B738-D3E5-4B64-8D9F-87BF671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24057-3B7D-4496-BFC3-7F75DDB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3FBA4-23D7-4CB6-AF3B-E6FF577C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48317-99B2-4304-A322-C4F03FAE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C25-BDF7-4330-B800-684E4D5F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3EB8-9CFF-4161-ACC4-26F8A510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17D74-9503-4682-9499-9A8FBD58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119BC-F7C5-4ADB-90E2-B21AC512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734C-4CE7-456F-A276-B485C2E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17DD-DA51-45F2-8E86-2D17C9C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9994-474D-4768-A10E-178C64CF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107A3-D3EC-42E1-8D42-4381DCBF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0D0B-1B21-49E2-9E95-F5C3759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A2149-1ACF-4DA8-B51F-D43AA48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A7238-2721-4A8C-9BE4-D74CAD1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9AA-F5E1-4BEE-837F-4DF96856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65B4-EB40-4850-AD84-BF072B2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03C8-29E8-4255-A085-BE3CE0FF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79ECF-EE03-4A49-B6FB-FD792625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2E8D-FDFC-4F4F-A992-69094BB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1E31-F559-401D-A293-E3B1B95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7863-37AF-453C-B12C-1FEE7CC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3762-47EA-45E5-A96F-FA60B2D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12F-2D94-45C4-B592-C68B84C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60B4-48C3-4F50-A26F-444D1F3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75B-D853-4C92-AFEB-AC01736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A5B8-4263-4586-BCA3-6E1D8F2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1724-84F7-43CA-8B41-93F77FD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B458-D793-4371-820A-2A8C587E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329-407D-4825-9C4C-56F0A006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AE39-A73A-4612-AC07-12190636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CF22-2176-472E-9E50-26AAA945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5613-2D02-4779-A5E9-D481D7A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2954-CA39-4442-9D89-1B721A8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42D2-C3C2-4658-9031-A627C5B4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FDBF-3C5C-4114-A6D5-982AA6FB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B0C-92C5-4FC5-B00D-ABF9CAD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B50E-F5F5-4381-9970-3C1C836D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EC97-FC3D-44F2-ADD5-9C590EC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DCEE-E82D-4D25-969C-5208C5A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4397-F399-4584-B2FB-7EA3237A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19A1-0509-49B8-ADFF-CF161AB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03B9-9634-4831-8612-D3B5AA2A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5309-F77B-4440-A4B6-7CE19C14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D92CD-8E9C-47D4-8865-C432A0C2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2657-71FC-462B-A62A-6293D3E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5F0E-0F8D-4E20-A780-DCF85964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289-BE69-42BC-A7BB-BCC922AE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B559-BC5E-4239-843E-3832A51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74DC-6C90-4545-B27E-810513D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04DB-2D74-4CE8-A77E-E7207C7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8A3F-E10E-467F-A21A-E67E85BB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2834-6DC2-42AA-BD60-E93B381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98B5-C61D-4478-B9D8-9D466967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76FF9-624B-42D6-9ED1-FAC6615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4EEE-3F4A-4FDE-A8BA-F0A4C29C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D986-78A3-47C4-AFFC-0B8C6127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FC4F-5A54-4D54-AC3C-AB2E8607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2F9-3226-485A-BAF1-C57E2C1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812C-E127-4ADA-95FB-83D9862A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337A2-1B6A-43BF-9072-66E9189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091A4-F67D-48E6-9E2A-E910260B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FF695-5966-4DF4-AC29-A675DDA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B0C3-A6EC-4D66-8FF0-8BCE54A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E08B-CBF5-4442-810F-7998ECA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9E7FF-DD5A-43EB-8449-87BABBA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CDE8-A49E-48F8-9847-CC6E8353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09B1F-6CE6-49B0-8546-53A4E88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80ED-1D4A-4577-B3ED-9ED61CBE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058-C652-480D-A18D-7E6B30D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D76C-4A9C-4096-B08B-E6F2EEAE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47F8-422B-4E87-B38B-021F7CA5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F066-9A74-4A9C-A84E-444A964B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C6D2-2317-4C9C-BA67-2C78DA7A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F02FA-6E0A-47B3-8B20-F67DCCC8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349E-BDF2-4A0B-818A-0D7C1A4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1FB0-F657-43AC-8B41-C0DA28A3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D2D4-9857-49EA-9878-F00E65F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73150-D520-4294-BFCF-49404C9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E55B-864C-4CC8-865C-8BD22C2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D5F-B0D4-4492-9BC2-88253BC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3DD2-997F-4ED7-B91F-D52D824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9711-74BC-4B42-B316-9A3ECB92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E8E8-BB7B-46A9-9279-813E929A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A7550-FCE1-44C4-8C19-306E8516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3EC7-5B33-4231-B037-A297773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A7EF-F1F6-4475-B980-7E500A8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C8F9-3B73-48C1-94CC-E86BE738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0073-0E9F-4FE8-95BC-438479F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AC6B-F0B7-4C99-A111-FED1B96F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0A35-226E-476E-A5BB-DEB6097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3AA-FE30-479C-8F0A-8BFEB4A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FD89-5B14-4DF9-AE68-2A801FA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E67A-4B39-4940-8214-1C59383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64A46-500F-49E0-9149-73E292F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48AC-806A-4EB5-8B64-54E521BA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F2E4-6B34-4B1A-8844-BD4025E8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0D59-C863-475A-B433-6FCD9495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2B386-CA2F-4E04-9F4A-8BF962C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66FF-9D54-4311-BB0B-95D0124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17C49-C3F7-4AB3-9561-A554994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66BB-745F-4655-BC32-E6EE1C9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CE4-647D-49D5-BF9A-E454687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6A8D-64FA-4AD2-ADC2-C6DCD982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70C2F-9F05-483C-9F82-221BDA1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C03F4-F2F7-496C-B0EA-020014C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6164F-ACD6-445C-A515-267BEF4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31CF-FC92-4709-B369-C849DD0F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52FEC-6C95-41B8-8B35-35E52F05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D899-6E20-4623-B337-9213196C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79F9-5F4C-4A45-991C-50CB1E97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CEC68-CAF2-40BE-82AB-FEB69492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1D157-87A7-4EA1-B75F-36303F1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894-67CD-4D79-ACB1-148763F9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EF2-EAA3-4F54-BF2B-15477013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B2E8-67EC-46B3-A1E7-5AC02FC94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5EA-796F-472E-ADC0-8B72AB53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0463-01F6-44A6-9AC5-A8C8BCBF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715-8F03-44D3-A614-846B8522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4E6F-7994-40CC-AB8B-4AA7C36A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E59C-F678-4241-8149-D6DC298F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99D-4D34-4417-B3D4-F40FE6BF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12FD-66BA-4050-A54B-1700B43D9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BC88-F785-4CF4-9A9B-D8439749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ff66cc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FA19-BD71-40ED-AEB5-29C800C0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229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C772-74AC-433C-8076-22478EA8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男孩在路上帮奶奶推车，路人问小红“帮推车的是你弟弟吗？”小红说“不是。”请问那个男孩是小红的什么？ 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1_201004180558502teFZ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076640"/>
            <a:ext cx="2163600" cy="257328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5826-1470-4B89-80A3-61C199746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种动物小的时候没有腿，长大了有四条腿，还变 了名字叫青蛙，请问它小时候叫什么？（提示： 两个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1_2010041805585018IV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32720" y="4797360"/>
            <a:ext cx="2087280" cy="175428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DC07-72BE-405A-8D3C-97A0E106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230_091039E4"/>
          <p:cNvPicPr/>
          <p:nvPr/>
        </p:nvPicPr>
        <p:blipFill>
          <a:blip r:embed="rId1"/>
          <a:stretch/>
        </p:blipFill>
        <p:spPr>
          <a:xfrm>
            <a:off x="0" y="0"/>
            <a:ext cx="8964720" cy="314172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5"/>
          <p:cNvSpPr/>
          <p:nvPr/>
        </p:nvSpPr>
        <p:spPr>
          <a:xfrm>
            <a:off x="611280" y="407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只动物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0f69ce3d852686694e63260a62c898a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365720"/>
            <a:ext cx="2657520" cy="216036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4BD-0FED-47E3-9B4A-C52ED486A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700360" y="29242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924360" y="537372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607B-782E-4C5C-9AFB-C9FFEDF7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639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20140118133113555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7057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900000" y="1197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116000" y="90792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  <a:ea typeface="隶书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3C3-6269-43F7-AA02-408868BE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20140118133113302"/>
          <p:cNvPicPr/>
          <p:nvPr/>
        </p:nvPicPr>
        <p:blipFill>
          <a:blip r:embed="rId2"/>
          <a:stretch/>
        </p:blipFill>
        <p:spPr>
          <a:xfrm>
            <a:off x="0" y="0"/>
            <a:ext cx="8893080" cy="6665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6659640" y="436572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2AC-7E3A-468E-AD15-585E878B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823935860778015"/>
          <p:cNvPicPr/>
          <p:nvPr/>
        </p:nvPicPr>
        <p:blipFill>
          <a:blip r:embed="rId2"/>
          <a:stretch/>
        </p:blipFill>
        <p:spPr>
          <a:xfrm>
            <a:off x="430200" y="-387360"/>
            <a:ext cx="8713800" cy="74278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00000" y="9079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5C7-BD90-4D1A-8719-B52C016D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5" descr=""/>
          <p:cNvPicPr/>
          <p:nvPr/>
        </p:nvPicPr>
        <p:blipFill>
          <a:blip r:embed="rId1"/>
          <a:stretch/>
        </p:blipFill>
        <p:spPr>
          <a:xfrm>
            <a:off x="-687240" y="1909800"/>
            <a:ext cx="269856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494" name="Picture 9" descr=""/>
            <p:cNvPicPr/>
            <p:nvPr/>
          </p:nvPicPr>
          <p:blipFill>
            <a:blip r:embed="rId2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3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0" descr=""/>
            <p:cNvPicPr/>
            <p:nvPr/>
          </p:nvPicPr>
          <p:blipFill>
            <a:blip r:embed="rId4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1" descr=""/>
            <p:cNvPicPr/>
            <p:nvPr/>
          </p:nvPicPr>
          <p:blipFill>
            <a:blip r:embed="rId5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2" descr=""/>
            <p:cNvPicPr/>
            <p:nvPr/>
          </p:nvPicPr>
          <p:blipFill>
            <a:blip r:embed="rId6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3" descr=""/>
            <p:cNvPicPr/>
            <p:nvPr/>
          </p:nvPicPr>
          <p:blipFill>
            <a:blip r:embed="rId7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B1F5-A3E0-4650-BB89-305D05AA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/>
  <dc:description/>
  <cp:keywords/>
  <dc:language>en-US</dc:language>
  <cp:lastModifiedBy>User</cp:lastModifiedBy>
  <dcterms:modified xsi:type="dcterms:W3CDTF">2016-10-05T12:13:51Z</dcterms:modified>
  <cp:revision>43</cp:revision>
  <dc:subject/>
  <dc:title>  g    k    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